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2E-5E04-47F5-A990-5F24B8A8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FF0-3EFB-4004-8598-DBC99456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0A9-5239-4EF4-8737-C5A1495F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145-5ED9-4AAB-8561-0A05824E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202-9D30-4437-838D-5791B49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7F6-2B21-4667-AD62-5688EE6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919-02D7-4375-8EB7-7800141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D4A-D463-4D2E-A4A2-29B05A5F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C3E-9F05-4951-B94F-07A7595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05C-22BA-4D0C-90D2-6B3146E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DC5-72DB-4D66-AB17-F213BF9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005-9256-4C35-B99F-08EA8C1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002-A0BD-4FCE-BA20-EFAC46CC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440" y="5329080"/>
            <a:ext cx="3344760" cy="4722840"/>
          </a:xfrm>
          <a:custGeom>
            <a:avLst/>
            <a:gdLst/>
            <a:ahLst/>
            <a:rect l="l" t="t" r="r" b="b"/>
            <a:pathLst>
              <a:path w="2107" h="2975">
                <a:moveTo>
                  <a:pt x="0" y="75"/>
                </a:moveTo>
                <a:lnTo>
                  <a:pt x="0" y="2975"/>
                </a:lnTo>
                <a:lnTo>
                  <a:pt x="2051" y="2975"/>
                </a:lnTo>
                <a:lnTo>
                  <a:pt x="2107" y="1168"/>
                </a:lnTo>
                <a:lnTo>
                  <a:pt x="2044" y="923"/>
                </a:lnTo>
                <a:lnTo>
                  <a:pt x="2067" y="576"/>
                </a:lnTo>
                <a:lnTo>
                  <a:pt x="2012" y="198"/>
                </a:lnTo>
                <a:lnTo>
                  <a:pt x="1989" y="89"/>
                </a:lnTo>
                <a:cubicBezTo>
                  <a:pt x="1928" y="59"/>
                  <a:pt x="1760" y="0"/>
                  <a:pt x="1647" y="15"/>
                </a:cubicBezTo>
                <a:cubicBezTo>
                  <a:pt x="1535" y="30"/>
                  <a:pt x="1427" y="152"/>
                  <a:pt x="1313" y="180"/>
                </a:cubicBezTo>
                <a:lnTo>
                  <a:pt x="967" y="186"/>
                </a:lnTo>
                <a:cubicBezTo>
                  <a:pt x="838" y="208"/>
                  <a:pt x="656" y="316"/>
                  <a:pt x="538" y="310"/>
                </a:cubicBezTo>
                <a:lnTo>
                  <a:pt x="256" y="149"/>
                </a:lnTo>
                <a:lnTo>
                  <a:pt x="0" y="7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240" y="2536920"/>
            <a:ext cx="3278160" cy="541080"/>
          </a:xfrm>
          <a:custGeom>
            <a:avLst/>
            <a:gdLst/>
            <a:ahLst/>
            <a:rect l="l" t="t" r="r" b="b"/>
            <a:pathLst>
              <a:path w="9880" h="769">
                <a:moveTo>
                  <a:pt x="9823" y="78"/>
                </a:moveTo>
                <a:lnTo>
                  <a:pt x="9823" y="769"/>
                </a:lnTo>
                <a:lnTo>
                  <a:pt x="0" y="769"/>
                </a:lnTo>
                <a:lnTo>
                  <a:pt x="0" y="70"/>
                </a:lnTo>
                <a:lnTo>
                  <a:pt x="293" y="72"/>
                </a:lnTo>
                <a:cubicBezTo>
                  <a:pt x="397" y="72"/>
                  <a:pt x="350" y="71"/>
                  <a:pt x="623" y="70"/>
                </a:cubicBezTo>
                <a:cubicBezTo>
                  <a:pt x="896" y="69"/>
                  <a:pt x="1449" y="58"/>
                  <a:pt x="1934" y="63"/>
                </a:cubicBezTo>
                <a:cubicBezTo>
                  <a:pt x="2419" y="68"/>
                  <a:pt x="2990" y="112"/>
                  <a:pt x="3533" y="103"/>
                </a:cubicBezTo>
                <a:cubicBezTo>
                  <a:pt x="4076" y="93"/>
                  <a:pt x="4572" y="0"/>
                  <a:pt x="5191" y="5"/>
                </a:cubicBezTo>
                <a:cubicBezTo>
                  <a:pt x="5810" y="9"/>
                  <a:pt x="6676" y="132"/>
                  <a:pt x="7246" y="133"/>
                </a:cubicBezTo>
                <a:cubicBezTo>
                  <a:pt x="7816" y="134"/>
                  <a:pt x="8181" y="21"/>
                  <a:pt x="8610" y="12"/>
                </a:cubicBezTo>
                <a:cubicBezTo>
                  <a:pt x="9039" y="2"/>
                  <a:pt x="9570" y="64"/>
                  <a:pt x="9880" y="13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2803680"/>
            <a:ext cx="3344760" cy="3195360"/>
          </a:xfrm>
          <a:custGeom>
            <a:avLst/>
            <a:gdLst/>
            <a:ahLst/>
            <a:rect l="l" t="t" r="r" b="b"/>
            <a:pathLst>
              <a:path w="2107" h="2013">
                <a:moveTo>
                  <a:pt x="0" y="54"/>
                </a:moveTo>
                <a:lnTo>
                  <a:pt x="0" y="2013"/>
                </a:lnTo>
                <a:lnTo>
                  <a:pt x="2051" y="2013"/>
                </a:lnTo>
                <a:lnTo>
                  <a:pt x="1996" y="1583"/>
                </a:lnTo>
                <a:lnTo>
                  <a:pt x="2052" y="1276"/>
                </a:lnTo>
                <a:lnTo>
                  <a:pt x="2044" y="897"/>
                </a:lnTo>
                <a:lnTo>
                  <a:pt x="2107" y="597"/>
                </a:lnTo>
                <a:lnTo>
                  <a:pt x="2067" y="313"/>
                </a:lnTo>
                <a:lnTo>
                  <a:pt x="2051" y="34"/>
                </a:lnTo>
                <a:lnTo>
                  <a:pt x="1989" y="64"/>
                </a:lnTo>
                <a:cubicBezTo>
                  <a:pt x="1922" y="76"/>
                  <a:pt x="1760" y="114"/>
                  <a:pt x="1650" y="104"/>
                </a:cubicBezTo>
                <a:cubicBezTo>
                  <a:pt x="1541" y="94"/>
                  <a:pt x="1445" y="0"/>
                  <a:pt x="1331" y="4"/>
                </a:cubicBezTo>
                <a:lnTo>
                  <a:pt x="967" y="129"/>
                </a:lnTo>
                <a:cubicBezTo>
                  <a:pt x="837" y="151"/>
                  <a:pt x="670" y="139"/>
                  <a:pt x="552" y="135"/>
                </a:cubicBezTo>
                <a:lnTo>
                  <a:pt x="257" y="104"/>
                </a:lnTo>
                <a:lnTo>
                  <a:pt x="0" y="5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147080"/>
            <a:ext cx="7772400" cy="2904840"/>
          </a:xfrm>
          <a:custGeom>
            <a:avLst/>
            <a:gdLst/>
            <a:ahLst/>
            <a:rect l="l" t="t" r="r" b="b"/>
            <a:pathLst>
              <a:path w="9823" h="3060">
                <a:moveTo>
                  <a:pt x="0" y="82"/>
                </a:moveTo>
                <a:lnTo>
                  <a:pt x="0" y="3060"/>
                </a:lnTo>
                <a:lnTo>
                  <a:pt x="9823" y="3060"/>
                </a:lnTo>
                <a:lnTo>
                  <a:pt x="9823" y="52"/>
                </a:lnTo>
                <a:lnTo>
                  <a:pt x="9527" y="97"/>
                </a:lnTo>
                <a:cubicBezTo>
                  <a:pt x="9207" y="115"/>
                  <a:pt x="8430" y="173"/>
                  <a:pt x="7905" y="158"/>
                </a:cubicBezTo>
                <a:cubicBezTo>
                  <a:pt x="7380" y="143"/>
                  <a:pt x="6920" y="0"/>
                  <a:pt x="6374" y="6"/>
                </a:cubicBezTo>
                <a:lnTo>
                  <a:pt x="4631" y="196"/>
                </a:lnTo>
                <a:cubicBezTo>
                  <a:pt x="3998" y="249"/>
                  <a:pt x="3144" y="330"/>
                  <a:pt x="2577" y="324"/>
                </a:cubicBezTo>
                <a:lnTo>
                  <a:pt x="1228" y="158"/>
                </a:lnTo>
                <a:lnTo>
                  <a:pt x="0" y="8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 rot="10800000">
            <a:off x="1972080" y="7738560"/>
            <a:ext cx="5236920" cy="26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5" y="12501"/>
                </a:moveTo>
                <a:arcTo wR="10800" hR="10800" stAng="543870" swAng="21056130"/>
                <a:lnTo>
                  <a:pt x="10800" y="10800"/>
                </a:lnTo>
                <a:close/>
              </a:path>
              <a:path fill="none" w="21600" h="21600">
                <a:moveTo>
                  <a:pt x="21465" y="12501"/>
                </a:moveTo>
                <a:arcTo wR="10800" hR="10800" stAng="543870" swAng="21056130"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20880" y="8153280"/>
            <a:ext cx="3987360" cy="1841760"/>
            <a:chOff x="2720880" y="8153280"/>
            <a:chExt cx="3987360" cy="1841760"/>
          </a:xfrm>
        </p:grpSpPr>
        <p:sp>
          <p:nvSpPr>
            <p:cNvPr id="47" name=""/>
            <p:cNvSpPr/>
            <p:nvPr/>
          </p:nvSpPr>
          <p:spPr>
            <a:xfrm>
              <a:off x="272088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993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101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8032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591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699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4320" y="8153280"/>
              <a:ext cx="5616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3160" y="8153280"/>
              <a:ext cx="5508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63920" y="8153280"/>
              <a:ext cx="54720" cy="18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 flipV="1" rot="2700000">
            <a:off x="423360" y="7053120"/>
            <a:ext cx="2286000" cy="2287800"/>
          </a:xfrm>
          <a:prstGeom prst="blockArc">
            <a:avLst>
              <a:gd name="adj1" fmla="val 13465117"/>
              <a:gd name="adj2" fmla="val 18934883"/>
              <a:gd name="adj3" fmla="val 25806"/>
            </a:avLst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71760" y="8751960"/>
            <a:ext cx="5484600" cy="588960"/>
          </a:xfrm>
          <a:prstGeom prst="rect">
            <a:avLst/>
          </a:prstGeom>
          <a:solidFill>
            <a:srgbClr val="66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31440" y="7832520"/>
            <a:ext cx="17316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59880" y="7926120"/>
            <a:ext cx="11736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6200000">
            <a:off x="-1923840" y="5080680"/>
            <a:ext cx="528156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60600" y="7765200"/>
            <a:ext cx="11592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16200000">
            <a:off x="-2058120" y="5372640"/>
            <a:ext cx="5551200" cy="25092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64"/>
          <p:cNvSpPr/>
          <p:nvPr/>
        </p:nvSpPr>
        <p:spPr>
          <a:xfrm>
            <a:off x="-182520" y="2473200"/>
            <a:ext cx="907920" cy="293760"/>
          </a:xfrm>
          <a:custGeom>
            <a:avLst/>
            <a:gdLst>
              <a:gd name="textAreaLeft" fmla="*/ 0 w 907920"/>
              <a:gd name="textAreaRight" fmla="*/ 3308400 w 907920"/>
              <a:gd name="textAreaTop" fmla="*/ 0 h 293760"/>
              <a:gd name="textAreaBottom" fmla="*/ 753840 h 293760"/>
            </a:gdLst>
            <a:ahLst/>
            <a:rect l="textAreaLeft" t="textAreaTop" r="textAreaRight" b="textAreaBottom"/>
            <a:pathLst>
              <a:path w="431" h="195">
                <a:moveTo>
                  <a:pt x="429" y="195"/>
                </a:moveTo>
                <a:lnTo>
                  <a:pt x="431" y="1"/>
                </a:lnTo>
                <a:lnTo>
                  <a:pt x="207" y="0"/>
                </a:lnTo>
                <a:lnTo>
                  <a:pt x="207" y="109"/>
                </a:lnTo>
                <a:lnTo>
                  <a:pt x="0" y="109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70"/>
          <p:cNvSpPr/>
          <p:nvPr/>
        </p:nvSpPr>
        <p:spPr>
          <a:xfrm flipH="1">
            <a:off x="302760" y="2473200"/>
            <a:ext cx="282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2320" y="377028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1200" y="377028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23760" y="6442200"/>
            <a:ext cx="0" cy="87624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640" y="6437160"/>
            <a:ext cx="0" cy="87660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-1440" y="22320"/>
            <a:ext cx="7772400" cy="847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1320" y="684360"/>
            <a:ext cx="22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uropol"/>
              </a:rPr>
              <a:t>JetBack</a:t>
            </a:r>
            <a:r>
              <a:rPr b="1" lang="en-US" sz="2000" spc="-1" strike="noStrike" baseline="90000">
                <a:solidFill>
                  <a:srgbClr val="000000"/>
                </a:solidFill>
                <a:latin typeface="Neuropol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79"/>
          <p:cNvGrpSpPr/>
          <p:nvPr/>
        </p:nvGrpSpPr>
        <p:grpSpPr>
          <a:xfrm>
            <a:off x="4749840" y="874800"/>
            <a:ext cx="2679840" cy="320760"/>
            <a:chOff x="4749840" y="874800"/>
            <a:chExt cx="2679840" cy="320760"/>
          </a:xfrm>
        </p:grpSpPr>
        <p:sp>
          <p:nvSpPr>
            <p:cNvPr id="72" name="AutoShape 380"/>
            <p:cNvSpPr/>
            <p:nvPr/>
          </p:nvSpPr>
          <p:spPr>
            <a:xfrm>
              <a:off x="4749840" y="874800"/>
              <a:ext cx="2679840" cy="32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69" y="563"/>
                    <a:pt x="3137" y="5080"/>
                    <a:pt x="3137" y="10800"/>
                  </a:cubicBezTo>
                  <a:cubicBezTo>
                    <a:pt x="3137" y="16520"/>
                    <a:pt x="12369" y="210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WordArt 381"/>
            <p:cNvSpPr txBox="1"/>
            <p:nvPr/>
          </p:nvSpPr>
          <p:spPr>
            <a:xfrm>
              <a:off x="5346720" y="983520"/>
              <a:ext cx="1979640" cy="12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514"/>
                  </a:solidFill>
                  <a:latin typeface="Neuropol"/>
                </a:rPr>
                <a:t>Jet Lift Systems</a:t>
              </a:r>
              <a:endParaRPr b="0" lang="en-US" sz="1800" spc="1" strike="noStrike">
                <a:ln w="0">
                  <a:noFill/>
                </a:ln>
                <a:solidFill>
                  <a:srgbClr val="000514"/>
                </a:solidFill>
                <a:latin typeface="Neuropol"/>
                <a:ea typeface="Neuropol"/>
              </a:endParaRPr>
            </a:p>
          </p:txBody>
        </p:sp>
        <p:sp>
          <p:nvSpPr>
            <p:cNvPr id="74" name="WordArt 382"/>
            <p:cNvSpPr txBox="1"/>
            <p:nvPr/>
          </p:nvSpPr>
          <p:spPr>
            <a:xfrm>
              <a:off x="7320240" y="983520"/>
              <a:ext cx="33840" cy="19800"/>
            </a:xfrm>
            <a:prstGeom prst="rect">
              <a:avLst/>
            </a:prstGeom>
          </p:spPr>
          <p:txBody>
            <a:bodyPr wrap="none" lIns="90000" rIns="90000" tIns="-26640" bIns="-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514"/>
                  </a:solidFill>
                  <a:latin typeface="Neuropol"/>
                </a:rPr>
                <a:t>TM</a:t>
              </a:r>
              <a:endParaRPr b="1" lang="en-US" sz="1800" spc="1" strike="noStrike">
                <a:ln w="0">
                  <a:noFill/>
                </a:ln>
                <a:solidFill>
                  <a:srgbClr val="000514"/>
                </a:solidFill>
                <a:latin typeface="Neuropol"/>
                <a:ea typeface="Neuropo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0880" y="882720"/>
            <a:ext cx="1461960" cy="1824120"/>
            <a:chOff x="650880" y="882720"/>
            <a:chExt cx="1461960" cy="1824120"/>
          </a:xfrm>
        </p:grpSpPr>
        <p:pic>
          <p:nvPicPr>
            <p:cNvPr id="76" name="" descr="Best Oil Rig Vector Photos"/>
            <p:cNvPicPr/>
            <p:nvPr/>
          </p:nvPicPr>
          <p:blipFill>
            <a:blip r:embed="rId6"/>
            <a:srcRect l="64150" t="22512" r="32733" b="39126"/>
            <a:stretch/>
          </p:blipFill>
          <p:spPr>
            <a:xfrm flipH="1">
              <a:off x="650880" y="882720"/>
              <a:ext cx="13968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Image result for truck silhouette"/>
            <p:cNvPicPr/>
            <p:nvPr/>
          </p:nvPicPr>
          <p:blipFill>
            <a:blip r:embed="rId7"/>
            <a:srcRect l="20025" t="29660" r="15716" b="50706"/>
            <a:stretch/>
          </p:blipFill>
          <p:spPr>
            <a:xfrm flipH="1">
              <a:off x="772920" y="2419200"/>
              <a:ext cx="133992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784080" y="2382840"/>
              <a:ext cx="922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V="1">
            <a:off x="714240" y="3006720"/>
            <a:ext cx="0" cy="87624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14240" y="5102280"/>
            <a:ext cx="0" cy="876240"/>
          </a:xfrm>
          <a:prstGeom prst="line">
            <a:avLst/>
          </a:prstGeom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335400"/>
            <a:ext cx="1538280" cy="3875040"/>
            <a:chOff x="1295280" y="3335400"/>
            <a:chExt cx="1538280" cy="3875040"/>
          </a:xfrm>
        </p:grpSpPr>
        <p:sp>
          <p:nvSpPr>
            <p:cNvPr id="82" name=""/>
            <p:cNvSpPr/>
            <p:nvPr/>
          </p:nvSpPr>
          <p:spPr>
            <a:xfrm>
              <a:off x="1295280" y="3335400"/>
              <a:ext cx="1538280" cy="38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6320" y="4059360"/>
              <a:ext cx="79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ub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9320" y="4680000"/>
              <a:ext cx="844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JetBack Reverse 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Jet Pum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84160" y="58280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au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rri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46000" y="633420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ak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rai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1880" y="3400560"/>
              <a:ext cx="136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etBack Assemb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687320" y="3741840"/>
              <a:ext cx="213120" cy="3143160"/>
              <a:chOff x="1687320" y="3741840"/>
              <a:chExt cx="213120" cy="3143160"/>
            </a:xfrm>
          </p:grpSpPr>
          <p:sp>
            <p:nvSpPr>
              <p:cNvPr id="89" name=""/>
              <p:cNvSpPr/>
              <p:nvPr/>
            </p:nvSpPr>
            <p:spPr>
              <a:xfrm>
                <a:off x="1728360" y="3741840"/>
                <a:ext cx="121680" cy="749160"/>
              </a:xfrm>
              <a:prstGeom prst="rect">
                <a:avLst/>
              </a:prstGeom>
              <a:gradFill rotWithShape="0">
                <a:gsLst>
                  <a:gs pos="0">
                    <a:srgbClr val="454746"/>
                  </a:gs>
                  <a:gs pos="50000">
                    <a:srgbClr val="969c99"/>
                  </a:gs>
                  <a:gs pos="100000">
                    <a:srgbClr val="45474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23680" y="4471920"/>
                <a:ext cx="134280" cy="639720"/>
              </a:xfrm>
              <a:prstGeom prst="rect">
                <a:avLst/>
              </a:prstGeom>
              <a:gradFill rotWithShape="0">
                <a:gsLst>
                  <a:gs pos="0">
                    <a:srgbClr val="424242"/>
                  </a:gs>
                  <a:gs pos="50000">
                    <a:srgbClr val="ffffff"/>
                  </a:gs>
                  <a:gs pos="100000">
                    <a:srgbClr val="42424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61480" y="4890960"/>
                <a:ext cx="58680" cy="66600"/>
              </a:xfrm>
              <a:prstGeom prst="ellipse">
                <a:avLst/>
              </a:prstGeom>
              <a:gradFill rotWithShape="0">
                <a:gsLst>
                  <a:gs pos="0">
                    <a:srgbClr val="161817"/>
                  </a:gs>
                  <a:gs pos="50000">
                    <a:srgbClr val="3f4341"/>
                  </a:gs>
                  <a:gs pos="100000">
                    <a:srgbClr val="1618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688400" y="5108400"/>
                <a:ext cx="212040" cy="909360"/>
                <a:chOff x="1688400" y="5108400"/>
                <a:chExt cx="212040" cy="909360"/>
              </a:xfrm>
            </p:grpSpPr>
            <p:sp>
              <p:nvSpPr>
                <p:cNvPr id="93" name=""/>
                <p:cNvSpPr/>
                <p:nvPr/>
              </p:nvSpPr>
              <p:spPr>
                <a:xfrm rot="5400000">
                  <a:off x="1632600" y="5793120"/>
                  <a:ext cx="3153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5400000">
                  <a:off x="1681560" y="5820480"/>
                  <a:ext cx="223920" cy="2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5400000">
                  <a:off x="1567080" y="5270400"/>
                  <a:ext cx="448200" cy="124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1688400" y="5536080"/>
                  <a:ext cx="212040" cy="173160"/>
                  <a:chOff x="1688400" y="5536080"/>
                  <a:chExt cx="212040" cy="1731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rcRect l="59139" t="14775" r="26724" b="19858"/>
                  <a:stretch/>
                </p:blipFill>
                <p:spPr>
                  <a:xfrm rot="5400000">
                    <a:off x="1726920" y="5497560"/>
                    <a:ext cx="135000" cy="2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" name=""/>
                  <p:cNvGrpSpPr/>
                  <p:nvPr/>
                </p:nvGrpSpPr>
                <p:grpSpPr>
                  <a:xfrm>
                    <a:off x="1692360" y="5671080"/>
                    <a:ext cx="204120" cy="38160"/>
                    <a:chOff x="1692360" y="5671080"/>
                    <a:chExt cx="204120" cy="3816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 flipH="1" rot="5400000">
                      <a:off x="1785240" y="5577480"/>
                      <a:ext cx="17280" cy="204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1692720" y="5688360"/>
                      <a:ext cx="203760" cy="20880"/>
                    </a:xfrm>
                    <a:custGeom>
                      <a:avLst/>
                      <a:gdLst>
                        <a:gd name="textAreaLeft" fmla="*/ 32400 w 203760"/>
                        <a:gd name="textAreaRight" fmla="*/ 171360 w 203760"/>
                        <a:gd name="textAreaTop" fmla="*/ 3240 h 20880"/>
                        <a:gd name="textAreaBottom" fmla="*/ 17640 h 20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8515" y="21600"/>
                          </a:lnTo>
                          <a:lnTo>
                            <a:pt x="3085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162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688400" y="5379120"/>
                  <a:ext cx="209880" cy="108360"/>
                  <a:chOff x="1688400" y="5379120"/>
                  <a:chExt cx="209880" cy="108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5400000">
                    <a:off x="1751400" y="5328000"/>
                    <a:ext cx="83520" cy="209880"/>
                  </a:xfrm>
                  <a:prstGeom prst="rect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688760" y="5475240"/>
                    <a:ext cx="209520" cy="12240"/>
                  </a:xfrm>
                  <a:custGeom>
                    <a:avLst/>
                    <a:gdLst>
                      <a:gd name="textAreaLeft" fmla="*/ 25560 w 209520"/>
                      <a:gd name="textAreaRight" fmla="*/ 183960 w 20952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 rot="10800000">
                    <a:off x="1688760" y="5379120"/>
                    <a:ext cx="209520" cy="12240"/>
                  </a:xfrm>
                  <a:custGeom>
                    <a:avLst/>
                    <a:gdLst>
                      <a:gd name="textAreaLeft" fmla="*/ 25560 w 209520"/>
                      <a:gd name="textAreaRight" fmla="*/ 183960 w 20952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 rot="5400000">
                  <a:off x="1788840" y="5278320"/>
                  <a:ext cx="9000" cy="202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0800000">
                  <a:off x="1690200" y="5362200"/>
                  <a:ext cx="203040" cy="12600"/>
                </a:xfrm>
                <a:custGeom>
                  <a:avLst/>
                  <a:gdLst>
                    <a:gd name="textAreaLeft" fmla="*/ 32400 w 203040"/>
                    <a:gd name="textAreaRight" fmla="*/ 170640 w 203040"/>
                    <a:gd name="textAreaTop" fmla="*/ 1800 h 12600"/>
                    <a:gd name="textAreaBottom" fmla="*/ 10800 h 12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1692360" y="5483880"/>
                  <a:ext cx="202680" cy="50040"/>
                  <a:chOff x="1692360" y="5483880"/>
                  <a:chExt cx="202680" cy="500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5400000">
                    <a:off x="1788480" y="5387400"/>
                    <a:ext cx="9720" cy="202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693080" y="5493600"/>
                    <a:ext cx="201960" cy="40320"/>
                  </a:xfrm>
                  <a:custGeom>
                    <a:avLst/>
                    <a:gdLst>
                      <a:gd name="textAreaLeft" fmla="*/ 32400 w 201960"/>
                      <a:gd name="textAreaRight" fmla="*/ 169560 w 201960"/>
                      <a:gd name="textAreaTop" fmla="*/ 6480 h 40320"/>
                      <a:gd name="textAreaBottom" fmla="*/ 33840 h 4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692720" y="5272200"/>
                  <a:ext cx="204120" cy="91440"/>
                  <a:chOff x="1692720" y="5272200"/>
                  <a:chExt cx="204120" cy="914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400000">
                    <a:off x="1766520" y="5234760"/>
                    <a:ext cx="54720" cy="202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10800000">
                    <a:off x="1693800" y="5272200"/>
                    <a:ext cx="203040" cy="36360"/>
                  </a:xfrm>
                  <a:custGeom>
                    <a:avLst/>
                    <a:gdLst>
                      <a:gd name="textAreaLeft" fmla="*/ 32400 w 203040"/>
                      <a:gd name="textAreaRight" fmla="*/ 170640 w 203040"/>
                      <a:gd name="textAreaTop" fmla="*/ 5760 h 36360"/>
                      <a:gd name="textAreaBottom" fmla="*/ 3060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1728360" y="6016680"/>
                <a:ext cx="120240" cy="868320"/>
                <a:chOff x="1728360" y="6016680"/>
                <a:chExt cx="120240" cy="868320"/>
              </a:xfrm>
            </p:grpSpPr>
            <p:sp>
              <p:nvSpPr>
                <p:cNvPr id="114" name=""/>
                <p:cNvSpPr/>
                <p:nvPr/>
              </p:nvSpPr>
              <p:spPr>
                <a:xfrm rot="10800000">
                  <a:off x="1728360" y="6767640"/>
                  <a:ext cx="120240" cy="11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321b"/>
                    </a:gs>
                    <a:gs pos="100000">
                      <a:srgbClr val="ffc269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0800000">
                  <a:off x="1728360" y="6016680"/>
                  <a:ext cx="120240" cy="80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2321b"/>
                    </a:gs>
                    <a:gs pos="50000">
                      <a:srgbClr val="ffc269"/>
                    </a:gs>
                    <a:gs pos="100000">
                      <a:srgbClr val="42321b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82000" y="60991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782000" y="61657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782000" y="6234120"/>
                  <a:ext cx="18720" cy="172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782000" y="63007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82000" y="63673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782000" y="6435720"/>
                  <a:ext cx="18720" cy="172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782000" y="65023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782000" y="6568920"/>
                  <a:ext cx="18720" cy="190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82000" y="6635880"/>
                  <a:ext cx="18720" cy="1872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82000" y="6703920"/>
                  <a:ext cx="18720" cy="208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1820160" y="6138720"/>
                  <a:ext cx="16920" cy="623880"/>
                  <a:chOff x="1820160" y="6138720"/>
                  <a:chExt cx="16920" cy="6238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1820160" y="61387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820160" y="6205680"/>
                    <a:ext cx="1692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820160" y="62737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820160" y="63403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820160" y="6407280"/>
                    <a:ext cx="1692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820160" y="64753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820160" y="65419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820160" y="6610320"/>
                    <a:ext cx="16920" cy="1764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820160" y="66769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820160" y="6743520"/>
                    <a:ext cx="1692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1742400" y="6138720"/>
                  <a:ext cx="18360" cy="623880"/>
                  <a:chOff x="1742400" y="6138720"/>
                  <a:chExt cx="18360" cy="6238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742400" y="61387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742400" y="6205680"/>
                    <a:ext cx="1836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742400" y="62737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742400" y="63403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742400" y="6407280"/>
                    <a:ext cx="18360" cy="1872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742400" y="64753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42400" y="65419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742400" y="6610320"/>
                    <a:ext cx="18360" cy="1764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742400" y="66769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742400" y="6743520"/>
                    <a:ext cx="18360" cy="19080"/>
                  </a:xfrm>
                  <a:prstGeom prst="ellipse">
                    <a:avLst/>
                  </a:prstGeom>
                  <a:solidFill>
                    <a:srgbClr val="3f43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1687320" y="5108400"/>
                <a:ext cx="212400" cy="909720"/>
                <a:chOff x="1687320" y="5108400"/>
                <a:chExt cx="212400" cy="90972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1632600" y="5793120"/>
                  <a:ext cx="315720" cy="134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1681920" y="5821560"/>
                  <a:ext cx="223560" cy="2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5400000">
                  <a:off x="1568520" y="5269680"/>
                  <a:ext cx="44784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687320" y="5535720"/>
                  <a:ext cx="212400" cy="174240"/>
                  <a:chOff x="1687320" y="5535720"/>
                  <a:chExt cx="212400" cy="17424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rcRect l="59139" t="14775" r="26724" b="19858"/>
                  <a:stretch/>
                </p:blipFill>
                <p:spPr>
                  <a:xfrm rot="5400000">
                    <a:off x="1725480" y="5497200"/>
                    <a:ext cx="135720" cy="21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1691280" y="5671080"/>
                    <a:ext cx="204840" cy="38880"/>
                    <a:chOff x="1691280" y="5671080"/>
                    <a:chExt cx="204840" cy="388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 flipH="1" rot="5400000">
                      <a:off x="1784880" y="5577480"/>
                      <a:ext cx="17280" cy="204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92000" y="5688720"/>
                      <a:ext cx="204120" cy="21240"/>
                    </a:xfrm>
                    <a:custGeom>
                      <a:avLst/>
                      <a:gdLst>
                        <a:gd name="textAreaLeft" fmla="*/ 32760 w 204120"/>
                        <a:gd name="textAreaRight" fmla="*/ 171360 w 204120"/>
                        <a:gd name="textAreaTop" fmla="*/ 3240 h 21240"/>
                        <a:gd name="textAreaBottom" fmla="*/ 18000 h 21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8515" y="21600"/>
                          </a:lnTo>
                          <a:lnTo>
                            <a:pt x="3085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c4c4c"/>
                        </a:gs>
                        <a:gs pos="50000">
                          <a:srgbClr val="ffffff"/>
                        </a:gs>
                        <a:gs pos="100000">
                          <a:srgbClr val="4c4c4c"/>
                        </a:gs>
                      </a:gsLst>
                      <a:lin ang="162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688400" y="5379840"/>
                  <a:ext cx="210600" cy="108000"/>
                  <a:chOff x="1688400" y="5379840"/>
                  <a:chExt cx="210600" cy="1080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5400000">
                    <a:off x="1752120" y="5328360"/>
                    <a:ext cx="83160" cy="210600"/>
                  </a:xfrm>
                  <a:prstGeom prst="rect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88760" y="5475600"/>
                    <a:ext cx="210240" cy="12240"/>
                  </a:xfrm>
                  <a:custGeom>
                    <a:avLst/>
                    <a:gdLst>
                      <a:gd name="textAreaLeft" fmla="*/ 25560 w 210240"/>
                      <a:gd name="textAreaRight" fmla="*/ 184680 w 21024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0800000">
                    <a:off x="1688760" y="5379840"/>
                    <a:ext cx="210240" cy="12240"/>
                  </a:xfrm>
                  <a:custGeom>
                    <a:avLst/>
                    <a:gdLst>
                      <a:gd name="textAreaLeft" fmla="*/ 25560 w 210240"/>
                      <a:gd name="textAreaRight" fmla="*/ 184680 w 210240"/>
                      <a:gd name="textAreaTop" fmla="*/ 1440 h 12240"/>
                      <a:gd name="textAreaBottom" fmla="*/ 10800 h 12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011" y="21600"/>
                        </a:lnTo>
                        <a:lnTo>
                          <a:pt x="1589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rot="5400000">
                  <a:off x="1788120" y="5278320"/>
                  <a:ext cx="9720" cy="20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0800000">
                  <a:off x="1689120" y="5362200"/>
                  <a:ext cx="202680" cy="12600"/>
                </a:xfrm>
                <a:custGeom>
                  <a:avLst/>
                  <a:gdLst>
                    <a:gd name="textAreaLeft" fmla="*/ 32400 w 202680"/>
                    <a:gd name="textAreaRight" fmla="*/ 170280 w 202680"/>
                    <a:gd name="textAreaTop" fmla="*/ 1800 h 12600"/>
                    <a:gd name="textAreaBottom" fmla="*/ 10800 h 12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1691640" y="5482800"/>
                  <a:ext cx="203400" cy="51120"/>
                  <a:chOff x="1691640" y="5482800"/>
                  <a:chExt cx="203400" cy="511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5400000">
                    <a:off x="1788120" y="5386320"/>
                    <a:ext cx="10080" cy="203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692360" y="5493240"/>
                    <a:ext cx="202680" cy="40680"/>
                  </a:xfrm>
                  <a:custGeom>
                    <a:avLst/>
                    <a:gdLst>
                      <a:gd name="textAreaLeft" fmla="*/ 32400 w 202680"/>
                      <a:gd name="textAreaRight" fmla="*/ 170280 w 202680"/>
                      <a:gd name="textAreaTop" fmla="*/ 6480 h 40680"/>
                      <a:gd name="textAreaBottom" fmla="*/ 34200 h 40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691640" y="5273640"/>
                  <a:ext cx="206280" cy="90000"/>
                  <a:chOff x="1691640" y="5273640"/>
                  <a:chExt cx="206280" cy="90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5400000">
                    <a:off x="1766880" y="5234400"/>
                    <a:ext cx="54000" cy="20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10800000">
                    <a:off x="1692720" y="5273640"/>
                    <a:ext cx="204840" cy="36000"/>
                  </a:xfrm>
                  <a:custGeom>
                    <a:avLst/>
                    <a:gdLst>
                      <a:gd name="textAreaLeft" fmla="*/ 32760 w 204840"/>
                      <a:gd name="textAreaRight" fmla="*/ 172080 w 204840"/>
                      <a:gd name="textAreaTop" fmla="*/ 5760 h 36000"/>
                      <a:gd name="textAreaBottom" fmla="*/ 30240 h 3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9" name=""/>
            <p:cNvSpPr/>
            <p:nvPr/>
          </p:nvSpPr>
          <p:spPr>
            <a:xfrm>
              <a:off x="1746000" y="5443560"/>
              <a:ext cx="10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ac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95440" y="8259840"/>
            <a:ext cx="895320" cy="954000"/>
          </a:xfrm>
          <a:custGeom>
            <a:avLst/>
            <a:gdLst/>
            <a:ahLst/>
            <a:rect l="l" t="t" r="r" b="b"/>
            <a:pathLst>
              <a:path w="564" h="601">
                <a:moveTo>
                  <a:pt x="561" y="601"/>
                </a:moveTo>
                <a:lnTo>
                  <a:pt x="546" y="595"/>
                </a:lnTo>
                <a:cubicBezTo>
                  <a:pt x="522" y="591"/>
                  <a:pt x="463" y="592"/>
                  <a:pt x="416" y="577"/>
                </a:cubicBezTo>
                <a:cubicBezTo>
                  <a:pt x="369" y="562"/>
                  <a:pt x="307" y="536"/>
                  <a:pt x="261" y="507"/>
                </a:cubicBezTo>
                <a:cubicBezTo>
                  <a:pt x="215" y="478"/>
                  <a:pt x="177" y="451"/>
                  <a:pt x="138" y="402"/>
                </a:cubicBezTo>
                <a:cubicBezTo>
                  <a:pt x="99" y="353"/>
                  <a:pt x="53" y="277"/>
                  <a:pt x="30" y="216"/>
                </a:cubicBezTo>
                <a:cubicBezTo>
                  <a:pt x="7" y="155"/>
                  <a:pt x="5" y="73"/>
                  <a:pt x="0" y="37"/>
                </a:cubicBezTo>
                <a:lnTo>
                  <a:pt x="2" y="0"/>
                </a:lnTo>
                <a:lnTo>
                  <a:pt x="152" y="8"/>
                </a:lnTo>
                <a:lnTo>
                  <a:pt x="159" y="43"/>
                </a:lnTo>
                <a:cubicBezTo>
                  <a:pt x="164" y="68"/>
                  <a:pt x="170" y="120"/>
                  <a:pt x="183" y="156"/>
                </a:cubicBezTo>
                <a:cubicBezTo>
                  <a:pt x="196" y="192"/>
                  <a:pt x="206" y="224"/>
                  <a:pt x="236" y="260"/>
                </a:cubicBezTo>
                <a:cubicBezTo>
                  <a:pt x="266" y="296"/>
                  <a:pt x="324" y="348"/>
                  <a:pt x="362" y="372"/>
                </a:cubicBezTo>
                <a:cubicBezTo>
                  <a:pt x="400" y="396"/>
                  <a:pt x="433" y="396"/>
                  <a:pt x="463" y="403"/>
                </a:cubicBezTo>
                <a:cubicBezTo>
                  <a:pt x="493" y="410"/>
                  <a:pt x="528" y="412"/>
                  <a:pt x="545" y="413"/>
                </a:cubicBezTo>
                <a:lnTo>
                  <a:pt x="564" y="411"/>
                </a:lnTo>
                <a:lnTo>
                  <a:pt x="561" y="601"/>
                </a:lnTo>
                <a:close/>
              </a:path>
            </a:pathLst>
          </a:custGeom>
          <a:solidFill>
            <a:srgbClr val="33cccc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30440" y="8751960"/>
            <a:ext cx="474480" cy="5889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1535040" y="8778600"/>
            <a:ext cx="139680" cy="530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0640" y="8229600"/>
            <a:ext cx="196920" cy="95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61960" y="8777880"/>
            <a:ext cx="1767960" cy="530640"/>
            <a:chOff x="1461960" y="8777880"/>
            <a:chExt cx="1767960" cy="530640"/>
          </a:xfrm>
        </p:grpSpPr>
        <p:grpSp>
          <p:nvGrpSpPr>
            <p:cNvPr id="175" name=""/>
            <p:cNvGrpSpPr/>
            <p:nvPr/>
          </p:nvGrpSpPr>
          <p:grpSpPr>
            <a:xfrm>
              <a:off x="1927800" y="8777880"/>
              <a:ext cx="667080" cy="530640"/>
              <a:chOff x="1927800" y="8777880"/>
              <a:chExt cx="667080" cy="530640"/>
            </a:xfrm>
          </p:grpSpPr>
          <p:sp>
            <p:nvSpPr>
              <p:cNvPr id="176" name=""/>
              <p:cNvSpPr/>
              <p:nvPr/>
            </p:nvSpPr>
            <p:spPr>
              <a:xfrm>
                <a:off x="2363400" y="8885880"/>
                <a:ext cx="231480" cy="33444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77080" y="9015120"/>
                <a:ext cx="164160" cy="6120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27800" y="8895240"/>
                <a:ext cx="328680" cy="31140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241720" y="8777880"/>
                <a:ext cx="127440" cy="530640"/>
                <a:chOff x="2241720" y="8777880"/>
                <a:chExt cx="127440" cy="53064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10"/>
                <a:srcRect l="59139" t="14775" r="26724" b="19858"/>
                <a:stretch/>
              </p:blipFill>
              <p:spPr>
                <a:xfrm>
                  <a:off x="2241720" y="8777880"/>
                  <a:ext cx="99000" cy="530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1" name=""/>
                <p:cNvGrpSpPr/>
                <p:nvPr/>
              </p:nvGrpSpPr>
              <p:grpSpPr>
                <a:xfrm>
                  <a:off x="2340720" y="8787600"/>
                  <a:ext cx="28440" cy="510480"/>
                  <a:chOff x="2340720" y="8787600"/>
                  <a:chExt cx="28440" cy="5104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>
                    <a:off x="2340360" y="8787600"/>
                    <a:ext cx="12600" cy="51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2106720" y="9034200"/>
                    <a:ext cx="509040" cy="15480"/>
                  </a:xfrm>
                  <a:custGeom>
                    <a:avLst/>
                    <a:gdLst>
                      <a:gd name="textAreaLeft" fmla="*/ 81360 w 509040"/>
                      <a:gd name="textAreaRight" fmla="*/ 427680 w 509040"/>
                      <a:gd name="textAreaTop" fmla="*/ 2520 h 15480"/>
                      <a:gd name="textAreaBottom" fmla="*/ 12960 h 15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15" y="21600"/>
                        </a:lnTo>
                        <a:lnTo>
                          <a:pt x="308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50000">
                        <a:srgbClr val="ffffff"/>
                      </a:gs>
                      <a:gs pos="100000">
                        <a:srgbClr val="4c4c4c"/>
                      </a:gs>
                    </a:gsLst>
                    <a:lin ang="162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2125800" y="8782560"/>
                <a:ext cx="79920" cy="525960"/>
                <a:chOff x="2125800" y="8782560"/>
                <a:chExt cx="79920" cy="525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135160" y="8782920"/>
                  <a:ext cx="61560" cy="5256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6200000">
                  <a:off x="1938960" y="9040320"/>
                  <a:ext cx="524520" cy="9000"/>
                </a:xfrm>
                <a:custGeom>
                  <a:avLst/>
                  <a:gdLst>
                    <a:gd name="textAreaLeft" fmla="*/ 63720 w 524520"/>
                    <a:gd name="textAreaRight" fmla="*/ 460800 w 524520"/>
                    <a:gd name="textAreaTop" fmla="*/ 1080 h 9000"/>
                    <a:gd name="textAreaBottom" fmla="*/ 7920 h 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011" y="21600"/>
                      </a:lnTo>
                      <a:lnTo>
                        <a:pt x="158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5400000">
                  <a:off x="1867680" y="9040320"/>
                  <a:ext cx="524520" cy="9000"/>
                </a:xfrm>
                <a:custGeom>
                  <a:avLst/>
                  <a:gdLst>
                    <a:gd name="textAreaLeft" fmla="*/ 63720 w 524520"/>
                    <a:gd name="textAreaRight" fmla="*/ 460800 w 524520"/>
                    <a:gd name="textAreaTop" fmla="*/ 1080 h 9000"/>
                    <a:gd name="textAreaBottom" fmla="*/ 7920 h 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011" y="21600"/>
                      </a:lnTo>
                      <a:lnTo>
                        <a:pt x="158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2123640" y="8793000"/>
                <a:ext cx="6480" cy="50652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5400000">
                <a:off x="1864080" y="9046080"/>
                <a:ext cx="507600" cy="9000"/>
              </a:xfrm>
              <a:custGeom>
                <a:avLst/>
                <a:gdLst>
                  <a:gd name="textAreaLeft" fmla="*/ 81360 w 507600"/>
                  <a:gd name="textAreaRight" fmla="*/ 426240 w 507600"/>
                  <a:gd name="textAreaTop" fmla="*/ 1440 h 9000"/>
                  <a:gd name="textAreaBottom" fmla="*/ 7560 h 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4c"/>
                  </a:gs>
                  <a:gs pos="50000">
                    <a:srgbClr val="ffffff"/>
                  </a:gs>
                  <a:gs pos="100000">
                    <a:srgbClr val="4c4c4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203200" y="8792640"/>
                <a:ext cx="36720" cy="506880"/>
                <a:chOff x="2203200" y="8792640"/>
                <a:chExt cx="36720" cy="50688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203200" y="8793000"/>
                  <a:ext cx="720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6200000">
                  <a:off x="1972440" y="9030240"/>
                  <a:ext cx="505080" cy="29520"/>
                </a:xfrm>
                <a:custGeom>
                  <a:avLst/>
                  <a:gdLst>
                    <a:gd name="textAreaLeft" fmla="*/ 81000 w 505080"/>
                    <a:gd name="textAreaRight" fmla="*/ 424080 w 505080"/>
                    <a:gd name="textAreaTop" fmla="*/ 4680 h 29520"/>
                    <a:gd name="textAreaBottom" fmla="*/ 24840 h 29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162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48400" y="8787240"/>
                <a:ext cx="66600" cy="510840"/>
                <a:chOff x="2048400" y="8787240"/>
                <a:chExt cx="66600" cy="5108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75040" y="8790840"/>
                  <a:ext cx="39960" cy="507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5400000">
                  <a:off x="1807560" y="9028080"/>
                  <a:ext cx="508320" cy="26640"/>
                </a:xfrm>
                <a:custGeom>
                  <a:avLst/>
                  <a:gdLst>
                    <a:gd name="textAreaLeft" fmla="*/ 81360 w 508320"/>
                    <a:gd name="textAreaRight" fmla="*/ 426960 w 508320"/>
                    <a:gd name="textAreaTop" fmla="*/ 4320 h 26640"/>
                    <a:gd name="textAreaBottom" fmla="*/ 2232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c4c4c"/>
                    </a:gs>
                    <a:gs pos="50000">
                      <a:srgbClr val="ffffff"/>
                    </a:gs>
                    <a:gs pos="100000">
                      <a:srgbClr val="4c4c4c"/>
                    </a:gs>
                  </a:gsLst>
                  <a:lin ang="162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593800" y="8911080"/>
              <a:ext cx="636120" cy="300960"/>
              <a:chOff x="2593800" y="8911080"/>
              <a:chExt cx="636120" cy="300960"/>
            </a:xfrm>
          </p:grpSpPr>
          <p:sp>
            <p:nvSpPr>
              <p:cNvPr id="197" name=""/>
              <p:cNvSpPr/>
              <p:nvPr/>
            </p:nvSpPr>
            <p:spPr>
              <a:xfrm rot="5400000">
                <a:off x="3036600" y="9018720"/>
                <a:ext cx="300960" cy="85680"/>
              </a:xfrm>
              <a:prstGeom prst="ellipse">
                <a:avLst/>
              </a:prstGeom>
              <a:gradFill rotWithShape="0">
                <a:gsLst>
                  <a:gs pos="0">
                    <a:srgbClr val="42321b"/>
                  </a:gs>
                  <a:gs pos="100000">
                    <a:srgbClr val="ffc26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400000">
                <a:off x="2738880" y="8766000"/>
                <a:ext cx="300960" cy="591120"/>
              </a:xfrm>
              <a:prstGeom prst="rect">
                <a:avLst/>
              </a:prstGeom>
              <a:gradFill rotWithShape="0">
                <a:gsLst>
                  <a:gs pos="0">
                    <a:srgbClr val="42321b"/>
                  </a:gs>
                  <a:gs pos="50000">
                    <a:srgbClr val="ffc269"/>
                  </a:gs>
                  <a:gs pos="100000">
                    <a:srgbClr val="42321b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263700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200000">
                <a:off x="26859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2735280" y="9047160"/>
                <a:ext cx="47520" cy="1260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6200000">
                <a:off x="27849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283392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6200000">
                <a:off x="2883240" y="9047160"/>
                <a:ext cx="47520" cy="1260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6200000">
                <a:off x="293256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298152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3030480" y="9046800"/>
                <a:ext cx="47520" cy="1368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3081240" y="9046080"/>
                <a:ext cx="47520" cy="15120"/>
              </a:xfrm>
              <a:prstGeom prst="ellipse">
                <a:avLst/>
              </a:prstGeom>
              <a:solidFill>
                <a:srgbClr val="3f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683080" y="8939880"/>
                <a:ext cx="456840" cy="42120"/>
                <a:chOff x="2683080" y="8939880"/>
                <a:chExt cx="456840" cy="42120"/>
              </a:xfrm>
            </p:grpSpPr>
            <p:sp>
              <p:nvSpPr>
                <p:cNvPr id="210" name=""/>
                <p:cNvSpPr/>
                <p:nvPr/>
              </p:nvSpPr>
              <p:spPr>
                <a:xfrm rot="16200000">
                  <a:off x="26686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27176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276732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28162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28652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29152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6200000">
                  <a:off x="29638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3013920" y="8954640"/>
                  <a:ext cx="42120" cy="1260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6200000">
                  <a:off x="306288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6200000">
                  <a:off x="3111840" y="8953920"/>
                  <a:ext cx="421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683080" y="9130680"/>
                <a:ext cx="456840" cy="45720"/>
                <a:chOff x="2683080" y="9130680"/>
                <a:chExt cx="456840" cy="45720"/>
              </a:xfrm>
            </p:grpSpPr>
            <p:sp>
              <p:nvSpPr>
                <p:cNvPr id="221" name=""/>
                <p:cNvSpPr/>
                <p:nvPr/>
              </p:nvSpPr>
              <p:spPr>
                <a:xfrm rot="16200000">
                  <a:off x="26668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6200000">
                  <a:off x="27158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6200000">
                  <a:off x="276552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6200000">
                  <a:off x="28144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6200000">
                  <a:off x="28634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16200000">
                  <a:off x="29134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6200000">
                  <a:off x="29620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16200000">
                  <a:off x="3012120" y="9147240"/>
                  <a:ext cx="45720" cy="1260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6200000">
                  <a:off x="306108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6200000">
                  <a:off x="3110040" y="9146520"/>
                  <a:ext cx="45720" cy="13680"/>
                </a:xfrm>
                <a:prstGeom prst="ellipse">
                  <a:avLst/>
                </a:prstGeom>
                <a:solidFill>
                  <a:srgbClr val="3f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 rot="16200000">
              <a:off x="1550520" y="8772120"/>
              <a:ext cx="381240" cy="55836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50000">
                  <a:srgbClr val="ffffff"/>
                </a:gs>
                <a:gs pos="100000">
                  <a:srgbClr val="424242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1744560" y="8973000"/>
              <a:ext cx="101880" cy="163080"/>
            </a:xfrm>
            <a:prstGeom prst="ellipse">
              <a:avLst/>
            </a:prstGeom>
            <a:gradFill rotWithShape="0">
              <a:gsLst>
                <a:gs pos="0">
                  <a:srgbClr val="161817"/>
                </a:gs>
                <a:gs pos="50000">
                  <a:srgbClr val="3f4341"/>
                </a:gs>
                <a:gs pos="100000">
                  <a:srgbClr val="161817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5400000">
            <a:off x="2268360" y="8399880"/>
            <a:ext cx="86364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2417760" y="9185040"/>
            <a:ext cx="862920" cy="68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878040" y="7609320"/>
            <a:ext cx="1262520" cy="11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95" y="16127"/>
                </a:moveTo>
                <a:arcTo wR="10800" hR="10800" stAng="1773100" swAng="2095865"/>
                <a:lnTo>
                  <a:pt x="10800" y="10800"/>
                </a:lnTo>
                <a:close/>
              </a:path>
              <a:path fill="none" w="21600" h="21600">
                <a:moveTo>
                  <a:pt x="20195" y="16127"/>
                </a:moveTo>
                <a:arcTo wR="10800" hR="10800" stAng="1773100" swAng="2095865"/>
              </a:path>
            </a:pathLst>
          </a:custGeom>
          <a:noFill/>
          <a:ln w="1908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822600" y="7477200"/>
            <a:ext cx="1509840" cy="171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34" y="16232"/>
                </a:moveTo>
                <a:arcTo wR="10800" hR="10800" stAng="1811929" swAng="4051480"/>
                <a:lnTo>
                  <a:pt x="10800" y="10800"/>
                </a:lnTo>
                <a:close/>
              </a:path>
              <a:path fill="none" w="21600" h="21600">
                <a:moveTo>
                  <a:pt x="20134" y="16232"/>
                </a:moveTo>
                <a:arcTo wR="10800" hR="10800" stAng="1811929" swAng="4051480"/>
              </a:path>
            </a:pathLst>
          </a:custGeom>
          <a:noFill/>
          <a:ln w="38160">
            <a:solidFill>
              <a:srgbClr val="0033cc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136880" y="8828280"/>
            <a:ext cx="863280" cy="445320"/>
            <a:chOff x="1136880" y="8828280"/>
            <a:chExt cx="863280" cy="445320"/>
          </a:xfrm>
        </p:grpSpPr>
        <p:sp>
          <p:nvSpPr>
            <p:cNvPr id="238" name=""/>
            <p:cNvSpPr/>
            <p:nvPr/>
          </p:nvSpPr>
          <p:spPr>
            <a:xfrm>
              <a:off x="1136880" y="9076320"/>
              <a:ext cx="862920" cy="19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8" y="2775"/>
                  </a:moveTo>
                  <a:arcTo wR="10800" hR="10800" stAng="-2879468" swAng="70902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8" y="2775"/>
                  </a:moveTo>
                  <a:arcTo wR="10800" hR="10800" stAng="-2879468" swAng="7090266"/>
                </a:path>
              </a:pathLst>
            </a:custGeom>
            <a:noFill/>
            <a:ln w="1908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10800000">
              <a:off x="1136880" y="8828280"/>
              <a:ext cx="862920" cy="19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8" y="2775"/>
                  </a:moveTo>
                  <a:arcTo wR="10800" hR="10800" stAng="-2879468" swAng="70902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8" y="2775"/>
                  </a:moveTo>
                  <a:arcTo wR="10800" hR="10800" stAng="-2879468" swAng="7090266"/>
                </a:path>
              </a:pathLst>
            </a:custGeom>
            <a:noFill/>
            <a:ln w="1908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5400000">
            <a:off x="2776320" y="8199360"/>
            <a:ext cx="864000" cy="7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16200000">
            <a:off x="306576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3535920" y="8198280"/>
            <a:ext cx="863640" cy="79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4235400" y="8197920"/>
            <a:ext cx="86400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16200000">
            <a:off x="3825360" y="9130320"/>
            <a:ext cx="862920" cy="7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 rot="16200000">
            <a:off x="452628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030280" y="8197200"/>
            <a:ext cx="863640" cy="7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5706360" y="8197560"/>
            <a:ext cx="864000" cy="79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16200000">
            <a:off x="5320440" y="9131400"/>
            <a:ext cx="862920" cy="79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5301631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5301631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16200000">
            <a:off x="6019920" y="9131040"/>
            <a:ext cx="863280" cy="79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2" y="437"/>
                </a:moveTo>
                <a:arcTo wR="10800" hR="10800" stAng="-4418421" swAng="4282832"/>
                <a:lnTo>
                  <a:pt x="10800" y="10800"/>
                </a:lnTo>
                <a:close/>
              </a:path>
              <a:path fill="none" w="21600" h="21600">
                <a:moveTo>
                  <a:pt x="13842" y="437"/>
                </a:moveTo>
                <a:arcTo wR="10800" hR="10800" stAng="-4418421" swAng="4282832"/>
              </a:path>
            </a:pathLst>
          </a:custGeom>
          <a:noFill/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21160" y="2349360"/>
            <a:ext cx="393228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etBack system is a rig deployed jet pump and service packer, run in hole for post-frac clean up, for post-acid job flowback, or well testing. The service rig pump is used to power the JetBack jet pump, and lift rates typically range from 150 m3/D to 400+ m3/D, depending on the appl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d to difficult swabbing operations, the JetBack system easily handles sand and gas kicks, and can often reduce clean-up times by 70 to 80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etBack jet pump assembly is sized  for optimal performance in the specific well, targeting maximum lift rate.  Jet pumps are ideal for multi-phase flow and for sand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a pressure memory gauge in the JetBack assembly allows operators to gain valuable reservoir information for permanent pump siz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63680" y="1614600"/>
            <a:ext cx="4911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g Assisted Jet Pump Well Flow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7080" y="7500960"/>
            <a:ext cx="239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2880" y="9356760"/>
            <a:ext cx="239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nd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61120" y="7469280"/>
            <a:ext cx="151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0040" y="6450120"/>
            <a:ext cx="353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tliftsystems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03) 209-6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21:19:01Z</dcterms:created>
  <dc:creator>Source Rock</dc:creator>
  <dc:description/>
  <dc:language>en-US</dc:language>
  <cp:lastModifiedBy>Source Rock</cp:lastModifiedBy>
  <dcterms:modified xsi:type="dcterms:W3CDTF">2018-06-05T14:45:05Z</dcterms:modified>
  <cp:revision>29</cp:revision>
  <dc:subject/>
  <dc:title>Slide 1</dc:title>
</cp:coreProperties>
</file>